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E355-AD91-4B65-8DA4-F64773633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920" y="4298400"/>
            <a:ext cx="8642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FF3A-17A6-42E2-9424-B67B99D2C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92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928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53FB-C41A-4167-B074-BA458DEC2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3040" y="170604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0" y="170604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920" y="429840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3040" y="429840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4800" y="429840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7957-C9BB-407B-80A8-7C1AC6A57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9A13C-38B0-471D-A3B5-ECFC6C724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CA4A4-ED14-45A7-9332-DDB8F8A6F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502FD-7EC1-4AC1-81E4-1EE2316C3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F8E4A-C37A-4C35-ADDF-4D4E54BC4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90237-8AEE-42AF-AD03-AECA9C519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50920" y="260280"/>
            <a:ext cx="864216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589CC-DF32-4F8C-A075-C2344A182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92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2A01A-3E02-4D7E-8EE4-4E7C5AF2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3C03-A34C-4BD6-8BA4-5E8AF8317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928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BBF12-67CC-4743-B62D-CA6599C9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920" y="4298400"/>
            <a:ext cx="8642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83114-8FD1-4EF9-83C8-9DDCCBC8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920" y="4298400"/>
            <a:ext cx="8642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5C0E2-BF22-4FC6-88F8-B29EA5364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92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928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DA74B-B19F-45CA-89F5-3F453E8B8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3040" y="170604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0" y="170604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920" y="429840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3040" y="429840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4800" y="429840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EE614-A2CF-4F6D-8AFC-541290711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A162-0AE0-45C4-9201-B9E6EB9C0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3312-4839-4765-B67E-B14D92C67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801E-0DF7-4417-84E5-BCE076BD5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0920" y="260280"/>
            <a:ext cx="864216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B404-D2C3-478C-A89B-E59DB903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92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4448-1E87-4AAB-BF31-C359A20D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928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D7BD-D2B9-47DB-9B36-1521C566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920" y="4298400"/>
            <a:ext cx="8642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4078-5B4F-433B-9E8A-6E6366E3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54148-9A06-4024-B136-ACE0C91EC50B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4653000"/>
            <a:ext cx="757872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16E72-3C94-4803-98DD-CC5C26BA2E71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1515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1515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1515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4419720"/>
            <a:ext cx="868212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you pass the United States Citizenship tes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14040" y="5410080"/>
            <a:ext cx="75531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art of the qualification process for U. S. Citizenship is a 100 question test.  Here are 10 questions from the new (10-08) citizenship exam.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6 out of 10 correct is considered passing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Verdana"/>
              </a:rPr>
              <a:t>9.  What did Susan B. Anthony do?</a:t>
            </a:r>
            <a:endParaRPr b="0" lang="en-US" sz="5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Verdana"/>
              </a:rPr>
              <a:t>10.  Who was the president during WW 1?</a:t>
            </a:r>
            <a:endParaRPr b="0" lang="en-US" sz="5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heck Your Answers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560" y="1706040"/>
            <a:ext cx="42447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ff1515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Verdana"/>
              </a:rPr>
              <a:t>The President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0" lang="en-US" sz="4000" spc="-1" strike="noStrike">
                <a:solidFill>
                  <a:srgbClr val="000066"/>
                </a:solidFill>
                <a:latin typeface="Verdana"/>
              </a:rPr>
              <a:t>(currently George W. Bush)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324480" y="2895480"/>
            <a:ext cx="1123920" cy="14288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724280" y="1828800"/>
            <a:ext cx="405000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560" y="1706040"/>
            <a:ext cx="42447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Verdana"/>
              </a:rPr>
              <a:t>2.  Thomas     Jefferson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648320" y="1706400"/>
            <a:ext cx="42447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560" y="1706040"/>
            <a:ext cx="42447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Verdana"/>
              </a:rPr>
              <a:t>3.  Mississippi River or the Missouri River</a:t>
            </a:r>
            <a:endParaRPr b="0" lang="en-US" sz="48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4648320" y="1706400"/>
            <a:ext cx="4244760" cy="4962600"/>
            <a:chOff x="4648320" y="1706400"/>
            <a:chExt cx="4244760" cy="4962600"/>
          </a:xfrm>
        </p:grpSpPr>
        <p:pic>
          <p:nvPicPr>
            <p:cNvPr id="114" name="" descr=""/>
            <p:cNvPicPr/>
            <p:nvPr/>
          </p:nvPicPr>
          <p:blipFill>
            <a:blip r:embed="rId2"/>
            <a:stretch/>
          </p:blipFill>
          <p:spPr>
            <a:xfrm>
              <a:off x="4648320" y="1706400"/>
              <a:ext cx="4244760" cy="496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4648320" y="1706400"/>
              <a:ext cx="4244760" cy="4962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ff1515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560" y="1706040"/>
            <a:ext cx="42447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Verdana"/>
              </a:rPr>
              <a:t>4.  Nine</a:t>
            </a:r>
            <a:endParaRPr b="0" lang="en-US" sz="5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733920" y="2055960"/>
            <a:ext cx="518148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706040"/>
            <a:ext cx="42447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Verdana"/>
              </a:rPr>
              <a:t>5.  Nancy Pelosi</a:t>
            </a:r>
            <a:endParaRPr b="0" lang="en-US" sz="5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648320" y="1706400"/>
            <a:ext cx="42447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560" y="1706040"/>
            <a:ext cx="42447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Verdana"/>
              </a:rPr>
              <a:t>6.  The Civil War</a:t>
            </a:r>
            <a:endParaRPr b="0" lang="en-US" sz="5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648320" y="1706400"/>
            <a:ext cx="42447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560" y="1706040"/>
            <a:ext cx="42447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Verdana"/>
              </a:rPr>
              <a:t>7.  For the 13 original colonies</a:t>
            </a:r>
            <a:endParaRPr b="0" lang="en-US" sz="5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648320" y="1706400"/>
            <a:ext cx="42447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560" y="1706040"/>
            <a:ext cx="42447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Verdana"/>
              </a:rPr>
              <a:t>8.  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Puerto Rico, U.S. Virgin Islands, American Samoan, North Mariana Islands, Guam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648320" y="1706400"/>
            <a:ext cx="42447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Verdana"/>
              </a:rPr>
              <a:t>1.  Who is in charge of the executive branch of government?</a:t>
            </a:r>
            <a:endParaRPr b="0" lang="en-US" sz="5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560" y="1706040"/>
            <a:ext cx="42447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Verdana"/>
              </a:rPr>
              <a:t>9.  Fought for Women’s rights and Civil Rights</a:t>
            </a:r>
            <a:endParaRPr b="0" lang="en-US" sz="54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4648320" y="1706400"/>
            <a:ext cx="4244760" cy="4962600"/>
            <a:chOff x="4648320" y="1706400"/>
            <a:chExt cx="4244760" cy="4962600"/>
          </a:xfrm>
        </p:grpSpPr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4648320" y="1706400"/>
              <a:ext cx="4244760" cy="496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 txBox="1"/>
            <p:nvPr/>
          </p:nvSpPr>
          <p:spPr>
            <a:xfrm>
              <a:off x="4648320" y="1706400"/>
              <a:ext cx="4244760" cy="4962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ff1515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560" y="1706040"/>
            <a:ext cx="42447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Verdana"/>
              </a:rPr>
              <a:t>10.  Woodrow Wilson</a:t>
            </a:r>
            <a:endParaRPr b="0" lang="en-US" sz="5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648320" y="1706400"/>
            <a:ext cx="42447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Verdana"/>
              </a:rPr>
              <a:t>How did you do?</a:t>
            </a:r>
            <a:endParaRPr b="0" lang="en-US" sz="6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Verdana"/>
              </a:rPr>
              <a:t>Could you pass the U.S. Citizenship test?  </a:t>
            </a:r>
            <a:r>
              <a:rPr b="0" lang="en-US" sz="6000" spc="-1" strike="noStrike">
                <a:solidFill>
                  <a:srgbClr val="000066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Verdana"/>
              </a:rPr>
              <a:t>2.  Who wrote the Declaration of Independence?</a:t>
            </a:r>
            <a:endParaRPr b="0" lang="en-US" sz="5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Verdana"/>
              </a:rPr>
              <a:t>3.  Name one of the two longest rivers in the United States.</a:t>
            </a:r>
            <a:endParaRPr b="0" lang="en-US" sz="5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Verdana"/>
              </a:rPr>
              <a:t>4.  How many justices are on the Supreme Court?</a:t>
            </a:r>
            <a:endParaRPr b="0" lang="en-US" sz="5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Verdana"/>
              </a:rPr>
              <a:t>5.  What is the name of the Speaker of the House?</a:t>
            </a:r>
            <a:endParaRPr b="0" lang="en-US" sz="5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Verdana"/>
              </a:rPr>
              <a:t>6.  Name the U.S. war between the North and the South.</a:t>
            </a:r>
            <a:endParaRPr b="0" lang="en-US" sz="5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Verdana"/>
              </a:rPr>
              <a:t>7.  Why does the flag have 13 stripes?</a:t>
            </a:r>
            <a:endParaRPr b="0" lang="en-US" sz="5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Verdana"/>
              </a:rPr>
              <a:t>8.  Name one U. S. territory.</a:t>
            </a:r>
            <a:endParaRPr b="0" lang="en-US" sz="5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4T18:02:44Z</dcterms:created>
  <dc:creator>Lee-Anne T. Spalding</dc:creator>
  <dc:description/>
  <cp:keywords/>
  <dc:language>en-US</dc:language>
  <cp:lastModifiedBy>Lee-Anne T. Spalding</cp:lastModifiedBy>
  <dcterms:modified xsi:type="dcterms:W3CDTF">2008-05-24T19:03:59Z</dcterms:modified>
  <cp:revision>6</cp:revision>
  <dc:subject/>
  <dc:title>Can you pass the United States Citizenship test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301033</vt:lpwstr>
  </property>
</Properties>
</file>